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49586C1-5C94-47EC-91F3-324FCA8AD8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8C71945-64DE-47BE-A4EA-6A210E873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40650E4-3E4C-4F10-8E1E-04A51C863D2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209598C-9B38-4F02-A0E5-DA427B495F1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22D35-33CE-4D9E-A10B-80B28D7CD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DDA26-5DA4-4763-8CED-E464B3D93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6077D-9DE7-4A7B-8105-A0796D2D2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39BE7-D944-4F4A-A059-EA6E1FC31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F0135-3206-4705-9524-114AD9361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85800" y="184464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7552B-6EB1-41B4-B018-7BF1C9F59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6F298-A356-407C-B436-F8A71A98D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8C53290-2DE8-4EC6-A4F0-78A2A1765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65721-7CB7-4F8E-B598-E97B69A01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9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E9EB7-A885-4F1E-BC88-1B6BD744E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CA691-1631-4299-93B2-50EB56914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A3039-2E17-4D9A-A066-47502DFE4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A59EB-5D37-491A-BB1B-48C3E1821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E1C2E1C-A3CA-4D27-BFEF-747964953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674862F-91CF-4825-A3DD-0901AFBD62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4F87DDE-F09F-4EAB-9EE7-A8771365C4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184464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81B774A-C17A-4204-B4C2-66CB6E9E3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8602E0A-4799-4381-91BE-AF356E2534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7E11BD7-1DA1-4BB4-B050-30A746CB3A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BEFE32C-D3D2-4E25-85AD-56236A3A8D9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FB15-FE33-45BC-86A5-27E5F2D9738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25A9-DED4-443C-B24E-60049A30080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arm-Up Sentences</a:t>
            </a:r>
            <a:endParaRPr b="0" lang="en-US" sz="4400" spc="-1" strike="noStrike">
              <a:solidFill>
                <a:srgbClr val="dfdef6"/>
              </a:solidFill>
              <a:latin typeface="Arial"/>
            </a:endParaRPr>
          </a:p>
        </p:txBody>
      </p:sp>
      <p:sp>
        <p:nvSpPr>
          <p:cNvPr id="51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cient rock drawings proves that Horse Racing is at least 3,000 years ol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 dessert lizard senses danger it vibrates too instantly sink beneath the sand</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6094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Journal #25</a:t>
            </a:r>
            <a:endParaRPr b="0" lang="en-US" sz="5400" spc="-1" strike="noStrike">
              <a:solidFill>
                <a:srgbClr val="dfdef6"/>
              </a:solidFill>
              <a:latin typeface="Arial"/>
            </a:endParaRPr>
          </a:p>
        </p:txBody>
      </p:sp>
      <p:sp>
        <p:nvSpPr>
          <p:cNvPr id="517" name="PlaceHolder 2"/>
          <p:cNvSpPr>
            <a:spLocks noGrp="1"/>
          </p:cNvSpPr>
          <p:nvPr>
            <p:ph type="subTitle"/>
          </p:nvPr>
        </p:nvSpPr>
        <p:spPr>
          <a:xfrm>
            <a:off x="1295280" y="2514240"/>
            <a:ext cx="6400800" cy="2514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think that your parent’s perspective/ideas would change if they had to live your life for one day?  Why or why n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arm-Up Sentences</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Isaac Asimov “It took five mos. to get word back to Queen Isabella about the voyage of Columbus two wks. for Europe to hear about Lincoln’s assasonation and only one point three seconds to get the word from Neil Armstrong that man can walk on the mo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early nineteen hundreds, the average life expectancy for white females in the U.S. was 51.8 years, in nineteen ninety-one, the age was seventy-nine point six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4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Journal #26</a:t>
            </a:r>
            <a:endParaRPr b="0" lang="en-US" sz="5400" spc="-1" strike="noStrike">
              <a:solidFill>
                <a:srgbClr val="dfdef6"/>
              </a:solidFill>
              <a:latin typeface="Arial"/>
            </a:endParaRPr>
          </a:p>
        </p:txBody>
      </p:sp>
      <p:sp>
        <p:nvSpPr>
          <p:cNvPr id="521" name="PlaceHolder 2"/>
          <p:cNvSpPr>
            <a:spLocks noGrp="1"/>
          </p:cNvSpPr>
          <p:nvPr>
            <p:ph type="subTitle"/>
          </p:nvPr>
        </p:nvSpPr>
        <p:spPr>
          <a:xfrm>
            <a:off x="1371600" y="2437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Wr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48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Friday Warm-up</a:t>
            </a:r>
            <a:endParaRPr b="0" lang="en-US" sz="5400" spc="-1" strike="noStrike">
              <a:solidFill>
                <a:srgbClr val="dfdef6"/>
              </a:solidFill>
              <a:latin typeface="Arial"/>
            </a:endParaRPr>
          </a:p>
        </p:txBody>
      </p:sp>
      <p:sp>
        <p:nvSpPr>
          <p:cNvPr id="523" name="PlaceHolder 2"/>
          <p:cNvSpPr>
            <a:spLocks noGrp="1"/>
          </p:cNvSpPr>
          <p:nvPr>
            <p:ph type="subTitle"/>
          </p:nvPr>
        </p:nvSpPr>
        <p:spPr>
          <a:xfrm>
            <a:off x="0" y="1447560"/>
            <a:ext cx="9144000" cy="20574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ready/Already</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ready</a:t>
            </a:r>
            <a:r>
              <a:rPr b="0" lang="en-US" sz="2400" spc="-1" strike="noStrike">
                <a:solidFill>
                  <a:srgbClr val="ffffff"/>
                </a:solidFill>
                <a:latin typeface="Arial"/>
              </a:rPr>
              <a:t> (adj) – prepared; completely ready</a:t>
            </a:r>
            <a:endParaRPr b="0" lang="en-US" sz="24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 The volunteers at the shelter were </a:t>
            </a:r>
            <a:r>
              <a:rPr b="0" i="1" lang="en-US" sz="1800" spc="-1" strike="noStrike">
                <a:solidFill>
                  <a:srgbClr val="ffffff"/>
                </a:solidFill>
                <a:latin typeface="Arial"/>
              </a:rPr>
              <a:t>all ready</a:t>
            </a:r>
            <a:r>
              <a:rPr b="0" lang="en-US" sz="1800" spc="-1" strike="noStrike">
                <a:solidFill>
                  <a:srgbClr val="ffffff"/>
                </a:solidFill>
                <a:latin typeface="Arial"/>
              </a:rPr>
              <a:t> to serve dinner to those waiting in line.</a:t>
            </a:r>
            <a:endParaRPr b="0" lang="en-US" sz="18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ready</a:t>
            </a:r>
            <a:r>
              <a:rPr b="0" lang="en-US" sz="2400" spc="-1" strike="noStrike">
                <a:solidFill>
                  <a:srgbClr val="ffffff"/>
                </a:solidFill>
                <a:latin typeface="Arial"/>
              </a:rPr>
              <a:t> (adv) – before some specified time; previously</a:t>
            </a:r>
            <a:endParaRPr b="0" lang="en-US" sz="24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 By the time Sylvia arrived at school, classes had </a:t>
            </a:r>
            <a:r>
              <a:rPr b="0" i="1" lang="en-US" sz="1800" spc="-1" strike="noStrike">
                <a:solidFill>
                  <a:srgbClr val="ffffff"/>
                </a:solidFill>
                <a:latin typeface="Arial"/>
              </a:rPr>
              <a:t>already</a:t>
            </a:r>
            <a:r>
              <a:rPr b="0" lang="en-US" sz="1800" spc="-1" strike="noStrike">
                <a:solidFill>
                  <a:srgbClr val="ffffff"/>
                </a:solidFill>
                <a:latin typeface="Arial"/>
              </a:rPr>
              <a:t> begun.</a:t>
            </a:r>
            <a:endParaRPr b="0" lang="en-US" sz="1800" spc="-1" strike="noStrike">
              <a:solidFill>
                <a:srgbClr val="ffffff"/>
              </a:solidFill>
              <a:latin typeface="Arial"/>
            </a:endParaRPr>
          </a:p>
        </p:txBody>
      </p:sp>
      <p:sp>
        <p:nvSpPr>
          <p:cNvPr id="524" name=""/>
          <p:cNvSpPr/>
          <p:nvPr/>
        </p:nvSpPr>
        <p:spPr>
          <a:xfrm>
            <a:off x="380880" y="3657600"/>
            <a:ext cx="87631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oose the proper word to make the sentence correc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Clarence has his math homework (all ready, already) to pass i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The math test was for one hour, but Scott had (all ready, already) finished in a half-hou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All ready, Already) for the prom, Denise discovered a tear in her dres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Kyong had (all ready, already) selected a topic for her research pap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6:56:12Z</dcterms:created>
  <dc:creator>tpagel</dc:creator>
  <dc:description/>
  <dc:language>en-US</dc:language>
  <cp:lastModifiedBy>tpagel</cp:lastModifiedBy>
  <dcterms:modified xsi:type="dcterms:W3CDTF">2010-06-03T16:56:42Z</dcterms:modified>
  <cp:revision>1</cp:revision>
  <dc:subject/>
  <dc:title>Warm-Up Sentences</dc:title>
</cp:coreProperties>
</file>